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1C0-47DF-4E24-BFCD-97F369CF5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8B8-5C73-4AF5-BC77-FF041447F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69D-F2E3-4B23-B9B0-4468BBC28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5BDF-341C-44C3-A571-A8EF1AB6E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EFC8-1A2B-4E9A-A708-26D1F32E3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345-BF07-45E2-B34B-AA18BCEA8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4B6-702E-4D9E-BEA6-803881029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3580-20C5-4DC1-BD0F-26633EA07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247-B0CF-4B1C-8BE0-E8B6BD4A1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02A8-0A44-48E7-BF35-E4487EE30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03EE-602F-462F-988F-7181B6EC8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5C65-3690-4F25-A884-8E8FC86E9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CEE-61C9-4C62-B8BD-A3DE353C7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0815-EACF-4006-916C-506FA6B38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969-F791-4654-B054-035782AA2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3F2-A7FE-458B-9F53-CAB9D233E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E0E1-2529-49E2-953C-742F9FD5C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BF4-925C-4804-89DB-DCBCA9E1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490-B4C7-452C-8EDD-43D114E0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49E-411C-43D2-B741-B31745B8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74E-6761-4F94-B518-4207BB83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31D-8C26-4582-83E3-6E0F036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30-BEE5-4F74-81A2-77C7841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EDA-A354-4FC9-9DE5-5E55521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FA3-9100-48E5-9C9C-E1EA741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B74-AD05-41EC-9C5B-932E31F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CE2-D514-4EDB-8441-2E50F94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598-2FBE-4565-9891-75D05A1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BC2-4D90-4F81-BF82-94737C8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9624-6967-4E5B-83E9-6E55B8BE1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F75D-EB20-46F5-AE53-67FD1D0D5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Book Antiqua"/>
              </a:rPr>
              <a:t>Ancient Rome and the Roman Re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4F5-1DE0-4B2A-B643-7A0E680E8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The Punic W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76320" y="762120"/>
            <a:ext cx="472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arth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d an empire throughout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e fought Carthage in three wars from 264 B.C. to 146 B.C.  (118 year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y the Third Punic War, Rome had completely destroyed Carthage and gained all of Carthage’s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929120" y="685800"/>
            <a:ext cx="418644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420-E189-4835-AB2C-4471DC85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atricians vs. Plebe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334120" y="1219320"/>
            <a:ext cx="373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ave no say in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ventually get to elect their own official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ribun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 494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84 years, (421-337 B.C.) plebeians fought to have a role in each part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8600" y="1390680"/>
            <a:ext cx="4859280" cy="440064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449-2AA4-4D9D-9A68-9675CD4DC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Social 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1219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head of the household and h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if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hildren did not question his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centuries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om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ceived more rights. These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wning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nning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3520" y="4572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ildren were taught to learn to read and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lthy had private tutors for thei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C14-DD38-499E-8565-A015815DA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6320" y="99072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ans wer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olytheist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hey believed in many 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Many of the gods were adapted from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Gr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2895480"/>
          <a:ext cx="6095880" cy="1752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reek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oman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Zeus-ruler of all g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upiter-ruler of all g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ra-wife of Zeus, protected marri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uno-wife of Jupiter, protected marri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seidon-god of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ptune-god of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76320" y="48769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man calendar is full of feasts and celebrations to honor the gods and godd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Temp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worship to ask for divine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0CC-5E48-4A4F-8D23-0F55B976A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28600" y="121932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grows strong and begins conquering the rest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y  270 B.C., Rome controls most of the Itali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itary is made up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conquered justly- allowing those conquered to keep thei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culture, customs, and gover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s long as they supplied soldiers, paid taxes, and acknowledge Roman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8911-D962-42CB-A5C3-8BC00E0CA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80880" y="7621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onque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ought much wealth to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Wealthy families bought huge estates calle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tifund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omans forced the people they conquered to work a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sla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the latifu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lave labor hurt the small farmers because it cost them more to produce food, and the price was driven down by the immense quantities coming into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armers fell into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deb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ld their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moved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king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ap between rich and poor widens=riots and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E541-827D-45A2-89C6-F18D1726C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The Gracchus Brot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4876920" y="990720"/>
            <a:ext cx="426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rothers worked to get the state to distribute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he poor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so worked to get the state to bu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gr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eed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ate felt they were a threat to it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hired thugs to kill the brothers and their 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48452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04920" y="1386000"/>
            <a:ext cx="4343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Tiberius and Gaius Gracchus were patricians who were elected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DE83-F938-402D-9F27-5F7B8841E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Republic to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09480" y="154296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Civil wa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out to decide who should hold power. The senate wanted to keep the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status qu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political leaders wanted to weaken the senate and enact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lave uprisings throughout the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rmies became loyal to their </a:t>
            </a:r>
            <a:r>
              <a:rPr b="0" lang="en-US" sz="2800" spc="-1" strike="noStrike" u="sng">
                <a:solidFill>
                  <a:srgbClr val="943634"/>
                </a:solidFill>
                <a:uFillTx/>
                <a:latin typeface="Calibri"/>
              </a:rPr>
              <a:t>command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y gave them benefits such as captured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45E-E2EF-41B7-A0B1-703568103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b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busters Government &amp;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teachers-direct.co.uk/resources/quiz-busters/quiz-busters-game.aspx?game_id=472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5B10-FA11-493F-9F00-A977F8EB7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ssay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id the Athenians prevent one person from gaining too much power? Explain this in relation to the system of checks and balances developed during the Democratic Age in Ath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Civ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38080" y="12193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Italy was originally occupied by many different group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wo main groups w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Greek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lonists and the Etru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Etruscans ruled much of central Italy and Rom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Ancestors of the Romans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Lat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settled in the area that is now Rome around 8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BFFF-818D-4C09-9222-149F6888A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-23"/>
          <p:cNvPicPr/>
          <p:nvPr/>
        </p:nvPicPr>
        <p:blipFill>
          <a:blip r:embed="rId1"/>
          <a:stretch/>
        </p:blipFill>
        <p:spPr>
          <a:xfrm>
            <a:off x="444600" y="1905120"/>
            <a:ext cx="831852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oman Citizenship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libri"/>
              </a:rPr>
              <a:t>Citizens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were the people who could participate in gover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Citizens had the right to vote and hold public off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Duties of citizenship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Paying ta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Serving in the army when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Rome’s emperors gave citizenship to groups that the Romans had conqu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This act helped keep people loyal to R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Main Idea 2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 Roman advancements in engineering, architecture, art, and philosophy helped shape later civilizations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7732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ads lasted for centuries, and bridges spanned raging riv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alibri"/>
              </a:rPr>
              <a:t>Aqueducts</a:t>
            </a: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, human-made channels that carried water from distant mountain ranges into Rome or other c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Architecture and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mans borrowed from Greek ideas, such as using columns and open space, but made their buildings larger and gra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Roman art borrowed ideas from the Greeks, such as making their art look realisti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Wanted to show the world as it really w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Wanted their ideas to improve people’s l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-31"/>
          <p:cNvPicPr/>
          <p:nvPr/>
        </p:nvPicPr>
        <p:blipFill>
          <a:blip r:embed="rId1"/>
          <a:stretch/>
        </p:blipFill>
        <p:spPr>
          <a:xfrm>
            <a:off x="2362320" y="1219320"/>
            <a:ext cx="436860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egend of the Founding of R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257800" y="137160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Legend has it that twin brother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ul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m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unded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According to the tale, the twins’ mother was a Latin woman and their father was the war g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is led Romans to believe that they had a divine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5400" y="1916280"/>
            <a:ext cx="5162400" cy="32652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CF2-DBDB-4272-95E2-B4B40C3A2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Book Antiqua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80880" y="961920"/>
            <a:ext cx="411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ted on the Italian peninsula, in the center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Mediterrane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lp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in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Apennine Mts. are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aster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broad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ertile plain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the north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4098960" cy="578664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40FC-F22A-4A30-B860-6F29149F9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ome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1447920"/>
            <a:ext cx="3429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me is loc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On the ban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ib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On and around seven 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4141" t="587" r="0" b="0"/>
          <a:stretch/>
        </p:blipFill>
        <p:spPr>
          <a:xfrm>
            <a:off x="3409920" y="1185840"/>
            <a:ext cx="5734080" cy="567216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EA04-C6CC-47A2-B57A-FA9FAD95B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2280" y="403848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ould Rome’s geographic location be an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762120" y="247824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mans drove out their Etruscan ruler and establish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id not want one person to have all th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72560" y="1600200"/>
            <a:ext cx="54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50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.C. Rome Republic is F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A25-D8BD-4038-A296-3288CF98E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tructure of the Repub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52280" y="762120"/>
            <a:ext cx="411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atric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landholding upp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farmers, merchants, artisans, tr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ate= governing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ls= two patr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ictato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assigned to be in charge in the event of a war for six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iagram 3" descr=""/>
          <p:cNvPicPr/>
          <p:nvPr/>
        </p:nvPicPr>
        <p:blipFill>
          <a:blip r:embed="rId1"/>
          <a:stretch/>
        </p:blipFill>
        <p:spPr>
          <a:xfrm>
            <a:off x="3041640" y="1427040"/>
            <a:ext cx="6108840" cy="41022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7"/>
          <p:cNvSpPr/>
          <p:nvPr/>
        </p:nvSpPr>
        <p:spPr>
          <a:xfrm>
            <a:off x="3733920" y="3124080"/>
            <a:ext cx="48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385-5B8A-4650-9419-803FE8F7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man B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48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Patric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Pleb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Cons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Assemb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Trib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V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Checks &amp; Bal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eg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re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ict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Crucifix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rae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Anarc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Pax Ro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leisth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en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9CAD-9E5B-4FDA-92A4-2EAFA2B1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ruscan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beian Re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quality for Plebe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elve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Period of Expa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ic W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the 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e becomes an Emp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736-B25C-4C64-8C3B-2D3B4549A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3:42:28Z</dcterms:created>
  <dc:creator>Hil</dc:creator>
  <dc:description/>
  <dc:language>en-US</dc:language>
  <cp:lastModifiedBy>IT User</cp:lastModifiedBy>
  <cp:lastPrinted>2010-11-25T08:51:11Z</cp:lastPrinted>
  <dcterms:modified xsi:type="dcterms:W3CDTF">2010-12-08T12:06:44Z</dcterms:modified>
  <cp:revision>106</cp:revision>
  <dc:subject/>
  <dc:title>Chapter 5 Ancient Rome and the Rise of Christianity</dc:title>
</cp:coreProperties>
</file>